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F79-1EF4-45F3-BEC0-FB015645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D99-5075-435E-B773-A092C3D6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BF4-C8D2-4563-A78A-FAA7CF8A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662-5F73-4257-85BE-B3A13FE5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072-03BA-4AF1-B880-FA9429DA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B87-0A19-439C-B5A3-B41B9A54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B600-6EC4-42BE-8513-F8A2BED1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C125-185C-40D1-AF5E-98FE440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A16B-AB80-4D7A-BBA0-1AC83A1E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08B2-84FB-4236-8097-A4874A2B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9EB5-C750-4E2A-B582-37460BB8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5420-B225-4F04-9FFF-BE17055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5F0-D2B4-43E3-8B98-9E91C7B3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DB8-5708-4A34-AE94-DDFFD18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89B0-EACE-4F76-B22C-978D99F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4803-D5C7-4087-A0FD-76F90C7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E9D6-80F9-48A6-BEBB-5F59EC40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3DE3-7023-4C56-A8F7-ED2FF9DC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B51-7378-45AD-BF5D-04AC780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9B5-3D0D-44F5-B3CA-62AFD37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884-4ED8-4226-A4CF-D4C82D63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DCD-37A9-45A2-AB8E-62EF045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035-D9A7-4911-803C-F8035A9C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F06-97BD-45C9-A38F-6FFAE247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62C-5E63-4792-93E8-8788AB8D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DE31-98FE-4562-AAFE-9BC37583F0A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BCEA-5B91-427C-8AD3-F0E04561AAF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RomaK</cp:lastModifiedBy>
  <dcterms:modified xsi:type="dcterms:W3CDTF">2015-09-04T09:29:26Z</dcterms:modified>
  <cp:revision>22</cp:revision>
  <dc:subject/>
  <dc:title>The French Revolution</dc:title>
</cp:coreProperties>
</file>